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F4233-B16C-4D61-BA5E-4AA7C064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FD3AB-F8ED-4274-8B15-58A6DBEA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BCBB5-09E8-43AE-8AE1-67E7EEF58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CDF0F-1C67-4B1F-BD31-E215A9B32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22A8-1D3E-4A74-B7A1-9F5E666D2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D30C-5387-4735-83CC-5B91E3EA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FAC1-8F05-4B93-8174-4CA3248F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CC2E-CCCA-40F4-8BD9-1EB7F082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9294-FA52-4CEB-A3CF-088F6F04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60DA-A538-4F9A-99E0-9359CCC5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391B-7A19-4801-AD18-9E90102B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5F882-64C1-4B2B-9A2C-FC65C260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E9FD-36DB-48E6-9A28-018E28B8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0C91-E533-4F6B-864D-4E18EAFC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1798-66B1-4A91-B823-80892A40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742B-EB0B-4D46-8AA2-7D3557A23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1615-256E-43DC-BAA4-9ED09B3F1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CD610-4F6E-4908-8B6F-71BD1141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B0AD7-6706-44B0-B5DA-75CB77E9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BBA90-94A3-484C-8AB4-D524827F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4000A-200A-4CC6-B070-89ACE9B4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66EF5-8684-422E-9690-A29AA8B7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FAB48-3400-49D8-8849-99F80AB3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91CE5-A06B-465F-A3EB-82BE2C67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67E5-E71A-4ADD-92AE-F206073381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AA2C-E79B-4FE9-BCA7-60B1C67F05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Hiding and Showing Object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sson 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brout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980280" y="1636560"/>
            <a:ext cx="58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 initializ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Presentation.Slides(3). Shapes(1). Visible = Fa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Presentation.Slides(3). Shapes(2). Visible = Fa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23040" y="2971800"/>
            <a:ext cx="7681680" cy="9169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irst, we have to hide the two shapes that we want to show later. You c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see that both shapes are on slide number 3.  The shapes are the first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second object that we placed on the scre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79920" y="4227480"/>
            <a:ext cx="5755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 show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Presentation.Slides(3). Shapes(1). Visible = Tr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Presentation.Slides(3). Shapes(2). Visible = Tr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80640" y="559908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By changing the word False to True, shapes will appe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90720" y="1219320"/>
            <a:ext cx="2514600" cy="251460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1676520"/>
            <a:ext cx="2438280" cy="2133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1143000"/>
            <a:ext cx="7621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3160" y="6462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1066680"/>
            <a:ext cx="6858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53040" y="5698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5257800"/>
            <a:ext cx="1676160" cy="685800"/>
          </a:xfrm>
          <a:custGeom>
            <a:avLst/>
            <a:gdLst>
              <a:gd name="textAreaLeft" fmla="*/ 44280 w 1676160"/>
              <a:gd name="textAreaRight" fmla="*/ 1631880 w 16761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76" h="21600">
                <a:moveTo>
                  <a:pt x="0" y="0"/>
                </a:moveTo>
                <a:lnTo>
                  <a:pt x="52776" y="0"/>
                </a:lnTo>
                <a:lnTo>
                  <a:pt x="52776" y="21600"/>
                </a:lnTo>
                <a:lnTo>
                  <a:pt x="0" y="21600"/>
                </a:lnTo>
                <a:close/>
              </a:path>
              <a:path fill="lightenLess" w="52776" h="21600">
                <a:moveTo>
                  <a:pt x="0" y="0"/>
                </a:moveTo>
                <a:lnTo>
                  <a:pt x="52776" y="0"/>
                </a:lnTo>
                <a:lnTo>
                  <a:pt x="51376" y="1400"/>
                </a:lnTo>
                <a:lnTo>
                  <a:pt x="1400" y="1400"/>
                </a:lnTo>
                <a:close/>
              </a:path>
              <a:path fill="darken" w="52776" h="21600">
                <a:moveTo>
                  <a:pt x="52776" y="0"/>
                </a:moveTo>
                <a:lnTo>
                  <a:pt x="52776" y="21600"/>
                </a:lnTo>
                <a:lnTo>
                  <a:pt x="51376" y="20200"/>
                </a:lnTo>
                <a:lnTo>
                  <a:pt x="51376" y="1400"/>
                </a:lnTo>
                <a:close/>
              </a:path>
              <a:path fill="darkenLess" w="52776" h="21600">
                <a:moveTo>
                  <a:pt x="5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76" y="20200"/>
                </a:lnTo>
                <a:close/>
              </a:path>
              <a:path fill="lighten" w="5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743200" y="4876560"/>
            <a:ext cx="83808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45360" y="453240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k the macro to initializ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5486400"/>
            <a:ext cx="1295640" cy="609480"/>
          </a:xfrm>
          <a:custGeom>
            <a:avLst/>
            <a:gdLst>
              <a:gd name="textAreaLeft" fmla="*/ 39240 w 1295640"/>
              <a:gd name="textAreaRight" fmla="*/ 1256400 w 12956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5903" h="21600">
                <a:moveTo>
                  <a:pt x="0" y="0"/>
                </a:moveTo>
                <a:lnTo>
                  <a:pt x="45903" y="0"/>
                </a:lnTo>
                <a:lnTo>
                  <a:pt x="45903" y="21600"/>
                </a:lnTo>
                <a:lnTo>
                  <a:pt x="0" y="21600"/>
                </a:lnTo>
                <a:close/>
              </a:path>
              <a:path fill="lightenLess" w="45903" h="21600">
                <a:moveTo>
                  <a:pt x="0" y="0"/>
                </a:moveTo>
                <a:lnTo>
                  <a:pt x="45903" y="0"/>
                </a:lnTo>
                <a:lnTo>
                  <a:pt x="44503" y="1400"/>
                </a:lnTo>
                <a:lnTo>
                  <a:pt x="1400" y="1400"/>
                </a:lnTo>
                <a:close/>
              </a:path>
              <a:path fill="darken" w="45903" h="21600">
                <a:moveTo>
                  <a:pt x="45903" y="0"/>
                </a:moveTo>
                <a:lnTo>
                  <a:pt x="45903" y="21600"/>
                </a:lnTo>
                <a:lnTo>
                  <a:pt x="44503" y="20200"/>
                </a:lnTo>
                <a:lnTo>
                  <a:pt x="44503" y="1400"/>
                </a:lnTo>
                <a:close/>
              </a:path>
              <a:path fill="darkenLess" w="45903" h="21600">
                <a:moveTo>
                  <a:pt x="4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03" y="20200"/>
                </a:lnTo>
                <a:close/>
              </a:path>
              <a:path fill="lighten" w="4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715000" y="5181480"/>
            <a:ext cx="9907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68360" y="460836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k macro to Sho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8:10:24Z</dcterms:created>
  <dc:creator>jnatale</dc:creator>
  <dc:description/>
  <dc:language>en-US</dc:language>
  <cp:lastModifiedBy>jnatale</cp:lastModifiedBy>
  <dcterms:modified xsi:type="dcterms:W3CDTF">2009-02-19T18:01:08Z</dcterms:modified>
  <cp:revision>2</cp:revision>
  <dc:subject/>
  <dc:title>Hiding and Showing Objects</dc:title>
</cp:coreProperties>
</file>